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8525-3761-4A52-8085-B4BA2426791C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10D39808-A72D-49B4-98BE-5204657A8C07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457200"/>
            <a:ext cx="792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457200"/>
            <a:ext cx="7667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069"/>
                </a:solidFill>
                <a:latin typeface="Arial"/>
              </a:rPr>
              <a:t>PCO</a:t>
            </a:r>
            <a:endParaRPr b="0" lang="en-US" sz="8800" spc="-1" strike="noStrike">
              <a:solidFill>
                <a:srgbClr val="003069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3069"/>
                </a:solidFill>
                <a:latin typeface="Arial"/>
              </a:rPr>
              <a:t>Features Overview</a:t>
            </a:r>
            <a:endParaRPr b="0" lang="en-US" sz="5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9718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Filtered Tracing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Structure Interpret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Logging, Replay and Testcase Gener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Integration with other Tool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Scripting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457200"/>
            <a:ext cx="792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3069"/>
                </a:solidFill>
                <a:latin typeface="Arial"/>
              </a:rPr>
              <a:t>Thanx for your patience </a:t>
            </a:r>
            <a:r>
              <a:rPr b="1" lang="de-DE" sz="40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39068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PCO – Point of Control and Observ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control of the PS behaviour and produced traces via system command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observation of all kinds of states and the data flow inside the P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Online and offline mode availab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Freely combinable set of GUI applications and scriptable command line tool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Open interface to derive customized viewer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e.g., a dedicated Engineering Mode Window is under developmen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80880" y="3581280"/>
            <a:ext cx="8388360" cy="2821680"/>
            <a:chOff x="380880" y="3581280"/>
            <a:chExt cx="8388360" cy="2821680"/>
          </a:xfrm>
        </p:grpSpPr>
        <p:sp>
          <p:nvSpPr>
            <p:cNvPr id="87" name=""/>
            <p:cNvSpPr/>
            <p:nvPr/>
          </p:nvSpPr>
          <p:spPr>
            <a:xfrm>
              <a:off x="380880" y="3886200"/>
              <a:ext cx="1641600" cy="1752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rotocol </a:t>
              </a:r>
              <a:br>
                <a:rPr sz="2400"/>
              </a:b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Times New Roman"/>
                </a:rPr>
                <a:t>(real target or 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Times New Roman"/>
                </a:rPr>
                <a:t>PC simulation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87760" y="3889440"/>
              <a:ext cx="1497240" cy="17366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Times New Roman"/>
                </a:rPr>
                <a:t>(combined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Times New Roman"/>
                </a:rPr>
                <a:t>with other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Times New Roman"/>
                </a:rPr>
                <a:t>test tools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022120" y="4267080"/>
              <a:ext cx="2467440" cy="735120"/>
              <a:chOff x="2022120" y="4267080"/>
              <a:chExt cx="2467440" cy="73512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2022120" y="4267080"/>
                <a:ext cx="2467080" cy="0"/>
              </a:xfrm>
              <a:prstGeom prst="line">
                <a:avLst/>
              </a:prstGeom>
              <a:ln w="38160">
                <a:solidFill>
                  <a:srgbClr val="0063c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22480" y="5002200"/>
                <a:ext cx="24670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33720" y="4302000"/>
                <a:ext cx="22860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069"/>
                    </a:solidFill>
                    <a:latin typeface="Times New Roman"/>
                  </a:rPr>
                  <a:t>Test interface </a:t>
                </a:r>
                <a:br>
                  <a:rPr sz="2000"/>
                </a:br>
                <a:r>
                  <a:rPr b="0" i="1" lang="en-US" sz="1600" spc="-1" strike="noStrike">
                    <a:solidFill>
                      <a:srgbClr val="003069"/>
                    </a:solidFill>
                    <a:latin typeface="Times New Roman"/>
                  </a:rPr>
                  <a:t>(UART, Socket, SHM,…)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857240" y="4952880"/>
              <a:ext cx="2814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Traces,</a:t>
              </a:r>
              <a:br>
                <a:rPr sz="2000"/>
              </a:b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duplicated primitives </a:t>
              </a:r>
              <a:br>
                <a:rPr sz="2000"/>
              </a:b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and air messag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4880" y="3581280"/>
              <a:ext cx="2814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System commands,</a:t>
              </a:r>
              <a:br>
                <a:rPr sz="2000"/>
              </a:b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keystrok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5200" y="3886200"/>
              <a:ext cx="1184040" cy="1752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Log</a:t>
              </a:r>
              <a:br>
                <a:rPr sz="2400"/>
              </a:b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file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85000" y="4495680"/>
              <a:ext cx="1600200" cy="0"/>
            </a:xfrm>
            <a:prstGeom prst="line">
              <a:avLst/>
            </a:prstGeom>
            <a:ln w="38160">
              <a:solidFill>
                <a:srgbClr val="0063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85000" y="4800600"/>
              <a:ext cx="16002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60960" y="4114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60960" y="48006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Replay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2670120" y="3543120"/>
              <a:ext cx="304560" cy="48006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6823080" y="4190760"/>
              <a:ext cx="304560" cy="35053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91080 h 3505320"/>
                <a:gd name="textAreaBottom" fmla="*/ 3414240 h 35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98800" y="60040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4590"/>
                  </a:solidFill>
                  <a:latin typeface="Times New Roman"/>
                </a:rPr>
                <a:t>Onlin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13600" y="60040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4590"/>
                  </a:solidFill>
                  <a:latin typeface="Times New Roman"/>
                </a:rPr>
                <a:t>Offlin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Filtered Trac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1393920"/>
            <a:ext cx="8753400" cy="3197160"/>
            <a:chOff x="228600" y="1393920"/>
            <a:chExt cx="8753400" cy="3197160"/>
          </a:xfrm>
        </p:grpSpPr>
        <p:sp>
          <p:nvSpPr>
            <p:cNvPr id="107" name=""/>
            <p:cNvSpPr/>
            <p:nvPr/>
          </p:nvSpPr>
          <p:spPr>
            <a:xfrm>
              <a:off x="228600" y="1393920"/>
              <a:ext cx="335268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069"/>
                  </a:solidFill>
                  <a:latin typeface="Arial"/>
                </a:rPr>
                <a:t>Traces, primitives and air messages can be watched ...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60960" indent="-25416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in one or more customized window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60960" indent="-25416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synchronized among all layers (L1 and L2/3) 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60960" indent="-25416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distinguishable by color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3657600" y="1622520"/>
              <a:ext cx="4648320" cy="29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5562720" y="1393920"/>
              <a:ext cx="3419280" cy="112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304920" y="3505320"/>
            <a:ext cx="3352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mpression of traces at the test interfac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Observation of dedicated paramet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e.g., neighbor cell coun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04920" y="4648320"/>
            <a:ext cx="8610480" cy="1828800"/>
            <a:chOff x="304920" y="4648320"/>
            <a:chExt cx="8610480" cy="1828800"/>
          </a:xfrm>
        </p:grpSpPr>
        <p:sp>
          <p:nvSpPr>
            <p:cNvPr id="112" name=""/>
            <p:cNvSpPr/>
            <p:nvPr/>
          </p:nvSpPr>
          <p:spPr>
            <a:xfrm>
              <a:off x="304920" y="4952880"/>
              <a:ext cx="33526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069"/>
                  </a:solidFill>
                  <a:latin typeface="Arial"/>
                </a:rPr>
                <a:t>Various kinds of filters may be applied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per SAP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per entity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per primitive/air message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5334120" y="4670280"/>
              <a:ext cx="1204920" cy="1600200"/>
            </a:xfrm>
            <a:prstGeom prst="rect">
              <a:avLst/>
            </a:prstGeom>
            <a:ln w="12600">
              <a:solidFill>
                <a:srgbClr val="003069"/>
              </a:solidFill>
              <a:miter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3429000" y="4702320"/>
              <a:ext cx="1828800" cy="1549080"/>
            </a:xfrm>
            <a:prstGeom prst="rect">
              <a:avLst/>
            </a:prstGeom>
            <a:ln w="9360">
              <a:solidFill>
                <a:srgbClr val="003069"/>
              </a:solidFill>
              <a:miter/>
            </a:ln>
          </p:spPr>
        </p:pic>
        <p:pic>
          <p:nvPicPr>
            <p:cNvPr id="115" name="" descr=""/>
            <p:cNvPicPr/>
            <p:nvPr/>
          </p:nvPicPr>
          <p:blipFill>
            <a:blip r:embed="rId5"/>
            <a:stretch/>
          </p:blipFill>
          <p:spPr>
            <a:xfrm>
              <a:off x="6629400" y="4648320"/>
              <a:ext cx="2286000" cy="1623960"/>
            </a:xfrm>
            <a:prstGeom prst="rect">
              <a:avLst/>
            </a:prstGeom>
            <a:ln w="12600">
              <a:solidFill>
                <a:srgbClr val="00306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1600" y="990360"/>
            <a:ext cx="7667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Structure Interpret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600200"/>
            <a:ext cx="7667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Hexdumps of duplicated primitives are interpret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804240" indent="-3654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the individual values of elements are show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804240" indent="-3654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... together with cleartext explanations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65400" indent="-3654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Air messages are decod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804240" indent="-3654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and interpreted as well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80769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069"/>
                </a:solidFill>
                <a:latin typeface="Arial"/>
              </a:rPr>
              <a:t>Logging, Replay and Testcase Gener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447920"/>
            <a:ext cx="766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All data received via the test interface can be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recorded into logfile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replayed, e.g., with different filter setting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used to automatically generate new (regression) test case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04920" y="2819520"/>
            <a:ext cx="8658000" cy="3352320"/>
            <a:chOff x="304920" y="2819520"/>
            <a:chExt cx="8658000" cy="3352320"/>
          </a:xfrm>
        </p:grpSpPr>
        <p:sp>
          <p:nvSpPr>
            <p:cNvPr id="124" name=""/>
            <p:cNvSpPr/>
            <p:nvPr/>
          </p:nvSpPr>
          <p:spPr>
            <a:xfrm>
              <a:off x="6588000" y="4046400"/>
              <a:ext cx="237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Lab-Test</a:t>
              </a:r>
              <a:endParaRPr b="0" lang="en-US" sz="2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04920" y="2819520"/>
              <a:ext cx="8191440" cy="3352320"/>
              <a:chOff x="304920" y="2819520"/>
              <a:chExt cx="8191440" cy="3352320"/>
            </a:xfrm>
          </p:grpSpPr>
          <p:sp>
            <p:nvSpPr>
              <p:cNvPr id="126" name=""/>
              <p:cNvSpPr/>
              <p:nvPr/>
            </p:nvSpPr>
            <p:spPr>
              <a:xfrm>
                <a:off x="2867040" y="3733920"/>
                <a:ext cx="685800" cy="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4907520" y="3659040"/>
                <a:ext cx="1233720" cy="1446120"/>
                <a:chOff x="4907520" y="3659040"/>
                <a:chExt cx="1233720" cy="144612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5165280" y="3659040"/>
                  <a:ext cx="725400" cy="680400"/>
                  <a:chOff x="5165280" y="3659040"/>
                  <a:chExt cx="725400" cy="6804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5470920" y="3680280"/>
                    <a:ext cx="1504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1">
                        <a:moveTo>
                          <a:pt x="9" y="0"/>
                        </a:moveTo>
                        <a:lnTo>
                          <a:pt x="38" y="0"/>
                        </a:lnTo>
                        <a:lnTo>
                          <a:pt x="48" y="31"/>
                        </a:lnTo>
                        <a:lnTo>
                          <a:pt x="0" y="3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802840" y="3945240"/>
                    <a:ext cx="87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1">
                        <a:moveTo>
                          <a:pt x="28" y="10"/>
                        </a:moveTo>
                        <a:lnTo>
                          <a:pt x="28" y="41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28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5195880" y="3945240"/>
                    <a:ext cx="856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0">
                        <a:moveTo>
                          <a:pt x="0" y="10"/>
                        </a:moveTo>
                        <a:lnTo>
                          <a:pt x="0" y="40"/>
                        </a:lnTo>
                        <a:lnTo>
                          <a:pt x="27" y="50"/>
                        </a:lnTo>
                        <a:lnTo>
                          <a:pt x="27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5253120" y="3754800"/>
                    <a:ext cx="148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6" y="50"/>
                        </a:moveTo>
                        <a:lnTo>
                          <a:pt x="48" y="13"/>
                        </a:lnTo>
                        <a:lnTo>
                          <a:pt x="20" y="0"/>
                        </a:lnTo>
                        <a:lnTo>
                          <a:pt x="0" y="22"/>
                        </a:lnTo>
                        <a:lnTo>
                          <a:pt x="16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680800" y="3757680"/>
                    <a:ext cx="15048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32" y="50"/>
                        </a:moveTo>
                        <a:lnTo>
                          <a:pt x="0" y="13"/>
                        </a:lnTo>
                        <a:lnTo>
                          <a:pt x="28" y="0"/>
                        </a:lnTo>
                        <a:lnTo>
                          <a:pt x="48" y="22"/>
                        </a:lnTo>
                        <a:lnTo>
                          <a:pt x="32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253120" y="4129920"/>
                    <a:ext cx="1486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7" y="0"/>
                        </a:moveTo>
                        <a:lnTo>
                          <a:pt x="48" y="36"/>
                        </a:lnTo>
                        <a:lnTo>
                          <a:pt x="20" y="50"/>
                        </a:lnTo>
                        <a:lnTo>
                          <a:pt x="0" y="2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684760" y="4127760"/>
                    <a:ext cx="14652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0"/>
                        </a:moveTo>
                        <a:lnTo>
                          <a:pt x="0" y="37"/>
                        </a:lnTo>
                        <a:lnTo>
                          <a:pt x="28" y="51"/>
                        </a:lnTo>
                        <a:lnTo>
                          <a:pt x="47" y="29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5469120" y="4259880"/>
                    <a:ext cx="14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9" y="29"/>
                        </a:moveTo>
                        <a:lnTo>
                          <a:pt x="37" y="29"/>
                        </a:lnTo>
                        <a:lnTo>
                          <a:pt x="47" y="0"/>
                        </a:lnTo>
                        <a:lnTo>
                          <a:pt x="0" y="0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274360" y="3757680"/>
                    <a:ext cx="528480" cy="5022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439960" y="3659040"/>
                    <a:ext cx="14688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9" y="0"/>
                        </a:moveTo>
                        <a:lnTo>
                          <a:pt x="38" y="0"/>
                        </a:lnTo>
                        <a:lnTo>
                          <a:pt x="47" y="29"/>
                        </a:lnTo>
                        <a:lnTo>
                          <a:pt x="0" y="29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772600" y="3920760"/>
                    <a:ext cx="8928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1">
                        <a:moveTo>
                          <a:pt x="29" y="10"/>
                        </a:moveTo>
                        <a:lnTo>
                          <a:pt x="29" y="41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5165280" y="3918600"/>
                    <a:ext cx="87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2">
                        <a:moveTo>
                          <a:pt x="0" y="10"/>
                        </a:moveTo>
                        <a:lnTo>
                          <a:pt x="0" y="42"/>
                        </a:lnTo>
                        <a:lnTo>
                          <a:pt x="28" y="52"/>
                        </a:lnTo>
                        <a:lnTo>
                          <a:pt x="28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224320" y="3730680"/>
                    <a:ext cx="1468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0">
                        <a:moveTo>
                          <a:pt x="16" y="50"/>
                        </a:moveTo>
                        <a:lnTo>
                          <a:pt x="47" y="13"/>
                        </a:lnTo>
                        <a:lnTo>
                          <a:pt x="19" y="0"/>
                        </a:lnTo>
                        <a:lnTo>
                          <a:pt x="0" y="22"/>
                        </a:lnTo>
                        <a:lnTo>
                          <a:pt x="16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652360" y="3730680"/>
                    <a:ext cx="14652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51"/>
                        </a:moveTo>
                        <a:lnTo>
                          <a:pt x="0" y="14"/>
                        </a:lnTo>
                        <a:lnTo>
                          <a:pt x="28" y="0"/>
                        </a:lnTo>
                        <a:lnTo>
                          <a:pt x="47" y="23"/>
                        </a:lnTo>
                        <a:lnTo>
                          <a:pt x="31" y="51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224320" y="4106160"/>
                    <a:ext cx="1508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7" y="0"/>
                        </a:moveTo>
                        <a:lnTo>
                          <a:pt x="48" y="37"/>
                        </a:lnTo>
                        <a:lnTo>
                          <a:pt x="19" y="50"/>
                        </a:lnTo>
                        <a:lnTo>
                          <a:pt x="0" y="2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5655960" y="4101120"/>
                    <a:ext cx="1465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0"/>
                        </a:moveTo>
                        <a:lnTo>
                          <a:pt x="0" y="37"/>
                        </a:lnTo>
                        <a:lnTo>
                          <a:pt x="28" y="51"/>
                        </a:lnTo>
                        <a:lnTo>
                          <a:pt x="47" y="2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436720" y="4231080"/>
                    <a:ext cx="14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0">
                        <a:moveTo>
                          <a:pt x="9" y="30"/>
                        </a:moveTo>
                        <a:lnTo>
                          <a:pt x="37" y="30"/>
                        </a:lnTo>
                        <a:lnTo>
                          <a:pt x="47" y="0"/>
                        </a:lnTo>
                        <a:lnTo>
                          <a:pt x="0" y="0"/>
                        </a:lnTo>
                        <a:lnTo>
                          <a:pt x="9" y="3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5243400" y="3735720"/>
                    <a:ext cx="530640" cy="50256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443920" y="3920760"/>
                    <a:ext cx="196560" cy="18756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424840" y="3901680"/>
                    <a:ext cx="196560" cy="18756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424840" y="3901680"/>
                    <a:ext cx="205920" cy="1944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411520" y="3887280"/>
                    <a:ext cx="190800" cy="1825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4907520" y="4386600"/>
                  <a:ext cx="1233720" cy="71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500"/>
                  </a:br>
                  <a:r>
                    <a:rPr b="0" lang="de-DE" sz="1800" spc="-1" strike="noStrike">
                      <a:solidFill>
                        <a:srgbClr val="003069"/>
                      </a:solidFill>
                      <a:latin typeface="Arial"/>
                    </a:rPr>
                    <a:t>Test-Case</a:t>
                  </a:r>
                  <a:br>
                    <a:rPr sz="1800"/>
                  </a:br>
                  <a:r>
                    <a:rPr b="0" lang="de-DE" sz="1800" spc="-1" strike="noStrike">
                      <a:solidFill>
                        <a:srgbClr val="003069"/>
                      </a:solidFill>
                      <a:latin typeface="Arial"/>
                    </a:rPr>
                    <a:t>Generator</a:t>
                  </a:r>
                  <a:endParaRPr b="0" lang="en-US" sz="18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32440" y="2946240"/>
                <a:ext cx="1368720" cy="13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3552840" y="3124080"/>
                <a:ext cx="1000080" cy="1103400"/>
              </a:xfrm>
              <a:prstGeom prst="foldedCorner">
                <a:avLst>
                  <a:gd name="adj" fmla="val 12500"/>
                </a:avLst>
              </a:prstGeom>
              <a:solidFill>
                <a:srgbClr val="b4d9ff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Logfile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000"/>
                </a:br>
                <a:r>
                  <a:rPr b="0" lang="de-DE" sz="1000" spc="-1" strike="noStrike">
                    <a:solidFill>
                      <a:srgbClr val="0063ce"/>
                    </a:solidFill>
                    <a:latin typeface="Arial"/>
                  </a:rPr>
                  <a:t>100010010100</a:t>
                </a:r>
                <a:br>
                  <a:rPr sz="1000"/>
                </a:br>
                <a:r>
                  <a:rPr b="0" lang="de-DE" sz="1000" spc="-1" strike="noStrike">
                    <a:solidFill>
                      <a:srgbClr val="0063ce"/>
                    </a:solidFill>
                    <a:latin typeface="Arial"/>
                  </a:rPr>
                  <a:t>011001110110</a:t>
                </a:r>
                <a:endParaRPr b="0" lang="en-US" sz="1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5200" y="4049640"/>
                <a:ext cx="237492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069"/>
                    </a:solidFill>
                    <a:latin typeface="Arial"/>
                  </a:rPr>
                  <a:t>Field-Test</a:t>
                </a:r>
                <a:endParaRPr b="0" lang="en-US" sz="2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19520" y="3809880"/>
                <a:ext cx="381240" cy="15264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6067440" y="3885840"/>
                <a:ext cx="609480" cy="15228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0800000">
                <a:off x="304920" y="5145840"/>
                <a:ext cx="8191440" cy="1025640"/>
              </a:xfrm>
              <a:custGeom>
                <a:avLst/>
                <a:gdLst>
                  <a:gd name="textAreaLeft" fmla="*/ 1433520 w 8191440"/>
                  <a:gd name="textAreaRight" fmla="*/ 5938920 w 8191440"/>
                  <a:gd name="textAreaTop" fmla="*/ 137160 h 1025640"/>
                  <a:gd name="textAreaBottom" fmla="*/ 888480 h 102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b4d9ff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74960" y="4944960"/>
                <a:ext cx="237492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069"/>
                    </a:solidFill>
                    <a:latin typeface="Arial"/>
                  </a:rPr>
                  <a:t>Development &amp; Bug-Fixing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00360" y="3429000"/>
                <a:ext cx="1030320" cy="74628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069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657360" y="2819520"/>
                <a:ext cx="1523520" cy="1600200"/>
                <a:chOff x="657360" y="2819520"/>
                <a:chExt cx="1523520" cy="1600200"/>
              </a:xfrm>
            </p:grpSpPr>
            <p:pic>
              <p:nvPicPr>
                <p:cNvPr id="16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06640" y="2819520"/>
                  <a:ext cx="1074240" cy="122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7360" y="3643920"/>
                  <a:ext cx="1141560" cy="77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3" name=""/>
              <p:cNvSpPr/>
              <p:nvPr/>
            </p:nvSpPr>
            <p:spPr>
              <a:xfrm>
                <a:off x="4619520" y="3352680"/>
                <a:ext cx="2133720" cy="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48320" y="2949480"/>
                <a:ext cx="1828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Replay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Integration with other Tools (1)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5238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Export functions for various file formats (e.g., ASCII) exi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Already a lot of tools can be directly used on the current viewer entries 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2209680"/>
            <a:ext cx="8534520" cy="3986280"/>
            <a:chOff x="228600" y="2209680"/>
            <a:chExt cx="8534520" cy="3986280"/>
          </a:xfrm>
        </p:grpSpPr>
        <p:grpSp>
          <p:nvGrpSpPr>
            <p:cNvPr id="169" name=""/>
            <p:cNvGrpSpPr/>
            <p:nvPr/>
          </p:nvGrpSpPr>
          <p:grpSpPr>
            <a:xfrm>
              <a:off x="228600" y="2209680"/>
              <a:ext cx="8534520" cy="3986280"/>
              <a:chOff x="228600" y="2209680"/>
              <a:chExt cx="8534520" cy="398628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28600" y="2209680"/>
                <a:ext cx="8458200" cy="3283200"/>
                <a:chOff x="228600" y="2209680"/>
                <a:chExt cx="8458200" cy="3283200"/>
              </a:xfrm>
            </p:grpSpPr>
            <p:pic>
              <p:nvPicPr>
                <p:cNvPr id="17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" y="2362320"/>
                  <a:ext cx="4900680" cy="313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"/>
                <p:cNvSpPr/>
                <p:nvPr/>
              </p:nvSpPr>
              <p:spPr>
                <a:xfrm>
                  <a:off x="4800600" y="2209680"/>
                  <a:ext cx="388620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5000"/>
                </a:bodyPr>
                <a:p>
                  <a:pPr lvl="1" marL="705600" indent="-271440">
                    <a:lnSpc>
                      <a:spcPct val="100000"/>
                    </a:lnSpc>
                    <a:spcBef>
                      <a:spcPts val="400"/>
                    </a:spcBef>
                    <a:buClr>
                      <a:srgbClr val="003069"/>
                    </a:buClr>
                    <a:buFont typeface="Wingdings" charset="2"/>
                    <a:buChar char="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3069"/>
                      </a:solidFill>
                      <a:latin typeface="Arial"/>
                    </a:rPr>
                    <a:t>for example MSCView to watch the corresponding message flow</a:t>
                  </a:r>
                  <a:endParaRPr b="0" lang="en-US" sz="16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124080"/>
                <a:ext cx="6858000" cy="3071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4" name=""/>
            <p:cNvSpPr/>
            <p:nvPr/>
          </p:nvSpPr>
          <p:spPr>
            <a:xfrm>
              <a:off x="1219320" y="2590920"/>
              <a:ext cx="990360" cy="99036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Integration with other Tools (2)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5238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Many tools exist which use the same framework as PCO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... and can, therefore, run in parallel as needed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80880" y="1676520"/>
            <a:ext cx="8589960" cy="4419360"/>
            <a:chOff x="380880" y="1676520"/>
            <a:chExt cx="8589960" cy="4419360"/>
          </a:xfrm>
        </p:grpSpPr>
        <p:grpSp>
          <p:nvGrpSpPr>
            <p:cNvPr id="179" name=""/>
            <p:cNvGrpSpPr/>
            <p:nvPr/>
          </p:nvGrpSpPr>
          <p:grpSpPr>
            <a:xfrm>
              <a:off x="380880" y="1676520"/>
              <a:ext cx="8589960" cy="4419360"/>
              <a:chOff x="380880" y="1676520"/>
              <a:chExt cx="8589960" cy="4419360"/>
            </a:xfrm>
          </p:grpSpPr>
          <p:sp>
            <p:nvSpPr>
              <p:cNvPr id="180" name=""/>
              <p:cNvSpPr/>
              <p:nvPr/>
            </p:nvSpPr>
            <p:spPr>
              <a:xfrm>
                <a:off x="380880" y="2362320"/>
                <a:ext cx="85345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069"/>
                    </a:solidFill>
                    <a:latin typeface="Arial"/>
                  </a:rPr>
                  <a:t>Some of them are usually started automatically by PCO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069"/>
                    </a:solidFill>
                    <a:latin typeface="Arial"/>
                  </a:rPr>
                  <a:t>... for example the virtual mobile „xPanel“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086600" y="1676520"/>
                <a:ext cx="1884240" cy="441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"/>
            <p:cNvSpPr/>
            <p:nvPr/>
          </p:nvSpPr>
          <p:spPr>
            <a:xfrm>
              <a:off x="6019920" y="2895480"/>
              <a:ext cx="838080" cy="763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33200" y="3124080"/>
            <a:ext cx="6801120" cy="3168720"/>
            <a:chOff x="133200" y="3124080"/>
            <a:chExt cx="6801120" cy="3168720"/>
          </a:xfrm>
        </p:grpSpPr>
        <p:sp>
          <p:nvSpPr>
            <p:cNvPr id="184" name=""/>
            <p:cNvSpPr/>
            <p:nvPr/>
          </p:nvSpPr>
          <p:spPr>
            <a:xfrm>
              <a:off x="380880" y="3124080"/>
              <a:ext cx="6553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069"/>
                  </a:solidFill>
                  <a:latin typeface="Arial"/>
                </a:rPr>
                <a:t>In further cases parts of PCO are started by other application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46200" indent="-2484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069"/>
                  </a:solidFill>
                  <a:latin typeface="Arial"/>
                </a:rPr>
                <a:t>... like the Test Application Process: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133200" y="4219560"/>
              <a:ext cx="3981600" cy="17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3657600" y="4124160"/>
              <a:ext cx="3048120" cy="21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057400" y="5486400"/>
              <a:ext cx="1828800" cy="15228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Script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60020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PCO also comes with various command line tools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to control the logging/replay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to do converting 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to send system commands to the protocol stack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80988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The PCO Reaction Viewer component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monitors incoming trac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... and starts actions triggered by rules defined in a deticated XML file, e.g.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ending of system command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tarting of application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1600" y="2819160"/>
            <a:ext cx="7667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069"/>
                </a:solidFill>
                <a:latin typeface="Arial"/>
              </a:rPr>
              <a:t>Live Demonstration</a:t>
            </a:r>
            <a:endParaRPr b="0" lang="en-US" sz="44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10-07T14:23:25Z</dcterms:modified>
  <cp:revision>198</cp:revision>
  <dc:subject/>
  <dc:title>PowerPoint-Präsentation</dc:title>
</cp:coreProperties>
</file>